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A247-2FA6-4E4F-9993-141403721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BDA5-CCA1-45D6-AEF1-C202F9423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22400" y="73008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2960" y="4587840"/>
            <a:ext cx="50306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2822-BAFD-435B-A89B-36AD8F687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B4B8D-2C5B-4527-966E-900BFD6E2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D505-E52A-4440-AF00-C94CE0598B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DD0A8-3BA0-416B-976D-6FDEE6BFCA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CFBD0-1003-4FB9-AED6-C2ED230FE6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2AB6D-12BB-4AC4-A784-589FE6FB2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6479-2A39-4C29-8357-0A33A53FDB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D156-2D94-41F1-8963-96CCEA802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9BFA-A1E2-4A72-8F57-B7022DEA06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5621E-C02C-4DA9-8CAD-AFB1C1E619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DAC7-6103-4678-8E33-C08477B75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FAA09-8A45-4295-A62C-EBEEEE9C8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9EEE-4517-4CAF-A968-73D6E7DDC89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4205198-8F47-494F-93F5-BA8606DBDBA6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faktor szerinti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400" y="231516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 független mintánk van, elemszám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33720" y="3200400"/>
                <a:ext cx="3579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33720" y="4419720"/>
                <a:ext cx="31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324480" y="2286000"/>
                <a:ext cx="1752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402A7-AE2B-467D-871A-10E8238F6B54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676520"/>
          <a:ext cx="8534160" cy="35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3416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99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egyensúlyozott terv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...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E440-6E99-4E0B-9C2F-3C943F2709EC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124080"/>
          <a:ext cx="5410440" cy="19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541044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15000" y="24382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380880" y="533520"/>
          <a:ext cx="419112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41911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544160" y="4495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7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48520" y="1295280"/>
                <a:ext cx="2052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H="1">
            <a:off x="4572000" y="160020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13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5105160"/>
            <a:ext cx="21337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48480" y="5181480"/>
                <a:ext cx="2238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593040" y="3124080"/>
                <a:ext cx="25509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48200" y="-108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Descriptive cel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160" y="25135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Test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5F7D0-0698-4DDE-882E-9697DDBE9885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09600" y="463680"/>
            <a:ext cx="59086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tételezések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17366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36640"/>
            <a:ext cx="4632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várható értéke zér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280" y="257508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3336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280" y="4479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5480" y="2575080"/>
            <a:ext cx="177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71800" y="2590920"/>
                <a:ext cx="35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412080" y="2575080"/>
            <a:ext cx="14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konst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352680"/>
            <a:ext cx="718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csoportokon belül és csoportok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0760" y="3886200"/>
            <a:ext cx="331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 függetlenek egymástó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08880" y="4479840"/>
            <a:ext cx="702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normális eloszlásúak (nem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datok!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05720" y="685800"/>
                <a:ext cx="1471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226DF-0C81-4607-BBCC-26599025E4E3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8240"/>
            <a:ext cx="12956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3200400"/>
                <a:ext cx="3429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418280" y="441828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gazi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ható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5440" y="4418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t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5120" y="3809880"/>
            <a:ext cx="53316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8960" y="45576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 szint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dié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580920" y="373356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76920" y="3809880"/>
            <a:ext cx="7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54040" y="17514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sérleti (nemcsak mérési)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818D-25C3-472A-A9C8-F2960B4D04CD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38080" y="4572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86200" y="457200"/>
                <a:ext cx="3700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2057400"/>
                <a:ext cx="1568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14400" y="4495680"/>
                <a:ext cx="1955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779160" y="129420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730160"/>
            <a:ext cx="482148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diéta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038480" y="4495680"/>
                <a:ext cx="2687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08480" y="533304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30470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43400" y="320040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9B333-A527-4C54-9825-DEE95FC3248D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86200" y="304920"/>
                <a:ext cx="1352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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85800" y="3038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cs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62120" y="1295280"/>
                <a:ext cx="36018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3048120"/>
                <a:ext cx="160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38080" y="365760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19560" y="1675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őát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0720" y="29707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5240" y="36565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4495680"/>
          <a:ext cx="571500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95680"/>
                    <a:ext cx="57150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A07F0-C929-46F7-AF43-172307363CD4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809880" y="3048120"/>
          <a:ext cx="48769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8769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762120"/>
          <a:ext cx="5715000" cy="18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762120"/>
                    <a:ext cx="5715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010280" y="99072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5715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915240" y="194976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gma-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5880" y="56376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t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3048120"/>
          <a:ext cx="18288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04812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5257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15120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9D937-6FA4-463B-9A18-780B5795A6CC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nfidencia-intervallum az egyes csoportok várható értéké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4280" y="1812960"/>
            <a:ext cx="18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0680" y="2727360"/>
            <a:ext cx="27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tervallum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05520" y="2514600"/>
                <a:ext cx="1388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24080" y="3352680"/>
                <a:ext cx="1060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933800" y="3565440"/>
            <a:ext cx="221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b. fokszá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543800" y="3505320"/>
                <a:ext cx="1152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807840" y="4403880"/>
            <a:ext cx="781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várható értékének konfidencia-intervallu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81080" y="5257800"/>
                <a:ext cx="4845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ra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00600" y="175248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C6713-148F-476C-9BDE-3A446AF279D8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762120"/>
                <a:ext cx="268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570560" y="762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utasí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3800" y="187020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egyik különböz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200400"/>
                <a:ext cx="89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00400" y="3200400"/>
                <a:ext cx="9320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86400" y="2971800"/>
                <a:ext cx="2157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893160" y="47656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ok: tervezett, 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6742-E3E4-4571-A637-90DF61942E25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38080" y="762120"/>
                <a:ext cx="1438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267080" y="609480"/>
                <a:ext cx="15717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5800" y="1752480"/>
                <a:ext cx="35766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1752480"/>
                <a:ext cx="26431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457200" y="3174120"/>
            <a:ext cx="8458200" cy="510120"/>
            <a:chOff x="457200" y="3174120"/>
            <a:chExt cx="8458200" cy="510120"/>
          </a:xfrm>
        </p:grpSpPr>
        <p:sp>
          <p:nvSpPr>
            <p:cNvPr id="211" name=""/>
            <p:cNvSpPr/>
            <p:nvPr/>
          </p:nvSpPr>
          <p:spPr>
            <a:xfrm>
              <a:off x="1600200" y="3174120"/>
              <a:ext cx="731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gyesítésével a szabadsági fok 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-2=6+6-2=10 len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457200" y="3200400"/>
                  <a:ext cx="32220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295280" y="3200400"/>
                  <a:ext cx="3225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839520" y="3199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3520" y="3961080"/>
            <a:ext cx="5732280" cy="682200"/>
            <a:chOff x="533520" y="3961080"/>
            <a:chExt cx="5732280" cy="68220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33520" y="3962520"/>
                  <a:ext cx="34740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505320" y="3962520"/>
                  <a:ext cx="276048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2280" y="396108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badsági f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828800" y="4648320"/>
                <a:ext cx="21556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252760" y="472284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SD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east Significant Dif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60A1-B04F-4503-A986-490092DB64C1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1752480"/>
          <a:ext cx="70009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00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5105520" y="2727360"/>
            <a:ext cx="1269360" cy="396720"/>
            <a:chOff x="5105520" y="2727360"/>
            <a:chExt cx="1269360" cy="396720"/>
          </a:xfrm>
        </p:grpSpPr>
        <p:sp>
          <p:nvSpPr>
            <p:cNvPr id="55" name=""/>
            <p:cNvSpPr/>
            <p:nvPr/>
          </p:nvSpPr>
          <p:spPr>
            <a:xfrm>
              <a:off x="510552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05520" y="2895480"/>
              <a:ext cx="304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5744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52000" y="2727360"/>
              <a:ext cx="72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333333"/>
                  </a:solidFill>
                  <a:latin typeface="H-Times New Roman"/>
                </a:rPr>
                <a:t>át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120" y="53352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 akkor is különböznek, ha a csoportok között nincs a valóságban különb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440" y="319968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C41B0-681C-431D-8CAD-A0A633A7E19E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4120" y="91296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ít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adik nullhipotéz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24360" y="838080"/>
                <a:ext cx="2025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2133720"/>
                <a:ext cx="1225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664440" y="2107440"/>
            <a:ext cx="318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ontraszt-együtthat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3200400"/>
                <a:ext cx="1682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733560" y="3199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tras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14400" y="4408560"/>
                <a:ext cx="1438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75120" y="4406760"/>
                <a:ext cx="15825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159360" y="5079240"/>
            <a:ext cx="328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-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162920" y="228600"/>
                <a:ext cx="1431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75520" y="838080"/>
                <a:ext cx="1863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C3F62-BF94-4832-9552-6FAAF3EE94DA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6680" y="914400"/>
                <a:ext cx="206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0" y="609480"/>
                <a:ext cx="24321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04880" y="2133720"/>
                <a:ext cx="30528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47920" y="3124080"/>
                <a:ext cx="22669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93440" y="5180040"/>
            <a:ext cx="58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rtogonálisak a kontrasztok, ha minden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kkor függetlenek az összehasonlít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934320" y="51814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5810-92B6-470F-B6B0-128AFF53EFAE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604800" y="3052800"/>
          <a:ext cx="7101000" cy="32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3052800"/>
                    <a:ext cx="7101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85800" y="609480"/>
                <a:ext cx="1870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11360" y="1371600"/>
                <a:ext cx="1846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2133720"/>
                <a:ext cx="2949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19920" y="8380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697520" y="8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013440" y="2133720"/>
                <a:ext cx="20890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0292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13BE-5428-42DA-88DF-3EF4633D0C67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7200" y="304920"/>
                <a:ext cx="992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749240" y="45720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 (1-2, 1-3, 1-4, 2-3, 2-4, 3-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1295280"/>
            <a:ext cx="7261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összehasonlításra az elsőfajú hiba valószínűsége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5)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vidual error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gy nem követünk el elsőfajú hibát: 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egyikéné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m követünk e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valamelyikéné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övetünk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810560" y="3784680"/>
                <a:ext cx="1015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327800" y="4927680"/>
                <a:ext cx="1879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977120" y="5638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amily error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43600" y="563868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801680" y="56386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7BC38-2E8C-4796-9B7C-533357A09774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64920" y="6084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független összehasonlítások eset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14400" y="2057400"/>
                <a:ext cx="1041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kα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181680" y="20563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nferroni-egyenlő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200400"/>
                <a:ext cx="157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832680" y="312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6 nem független összehasonlítás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4267-0226-4B8A-8C47-9CB733287B31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80880" y="914400"/>
          <a:ext cx="44197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44197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657600" y="1676520"/>
          <a:ext cx="548640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548640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04040" y="685800"/>
                <a:ext cx="13190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380880" y="3352680"/>
          <a:ext cx="4800600" cy="179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480060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657600" y="4419720"/>
          <a:ext cx="518148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419720"/>
                    <a:ext cx="51814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729400" y="3276720"/>
                <a:ext cx="1361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2520" y="30384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vezett összehasonlítá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anned comps fülön: Specify contr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73956-5AFC-4BA6-9FC6-7D9A2C7DE57E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867280" y="228600"/>
                <a:ext cx="2148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0" y="228600"/>
          <a:ext cx="472428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4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124080" y="1219320"/>
          <a:ext cx="601992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219320"/>
                    <a:ext cx="60199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410CA-8FEB-4D92-A4B5-2CD767AA2391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920" y="16765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429240" y="3733920"/>
                <a:ext cx="27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S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23200" y="1522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kkora különbséget tudnánk kimutat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920" y="9133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ower Analysis&gt;Several Means, ANOVA 1-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2172D-712A-4482-A752-308492BDCE7D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38080" y="2514600"/>
          <a:ext cx="47246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4724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06960" y="2286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76720" y="4343400"/>
          <a:ext cx="518148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43400"/>
                    <a:ext cx="5181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324480" y="2514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ny a normális eloszlás feltételezésé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3049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988560" y="1675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artlett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5920" y="4343400"/>
            <a:ext cx="187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vene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0480" y="303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400" y="913320"/>
            <a:ext cx="78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&gt;Assumptions fülön: Homogeneity of varianc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819520"/>
            <a:ext cx="2971800" cy="114300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EE4E-A3A8-4F25-B890-E08BFED034F1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1400" y="22860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feltételezések ellenőrzése a reziduumok vizsgálat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3657600"/>
          <a:ext cx="3657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657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9200" y="762120"/>
          <a:ext cx="35812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800600" y="3733920"/>
          <a:ext cx="3581280" cy="26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339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1000" y="10317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 1 f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69440" y="1946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520" y="266688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ed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hist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342900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3547-F4E0-4CB3-88B0-72CD986C6065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2209680"/>
          <a:ext cx="71308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130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70360" y="251460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H-Times New Roman"/>
              </a:rPr>
              <a:t>át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666880"/>
            <a:ext cx="3045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724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6720" y="350460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120" y="45612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z átlagok jobban különböznek. Szignifikáns a különbsé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124080" y="1143000"/>
                <a:ext cx="3171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38B3-AC0E-42F6-A15D-3388D5222D07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685800" y="2209680"/>
          <a:ext cx="39625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962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71040" y="727200"/>
            <a:ext cx="32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iduals 2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: Ord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Y: Res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5BCE-E834-420F-9757-8909F9D0B319}" type="slidenum">
              <a:t>30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5440"/>
            <a:ext cx="7669080" cy="1848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9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Véralvadási idő (sec) négyféle diéta eseté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alv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495680" cy="351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68880" y="26668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DCE8-300A-4481-967D-EECE09265F43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55760" y="126036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incs különbség a csoportok között, csak a véletlen ingadozás miatt térnek el egymástól az átlag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23880" y="2819520"/>
                <a:ext cx="406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570760" y="2801880"/>
            <a:ext cx="3471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tféleképpen adható m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o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76520" y="4875840"/>
            <a:ext cx="5685840" cy="515160"/>
            <a:chOff x="1676520" y="4875840"/>
            <a:chExt cx="5685840" cy="51516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676520" y="4876920"/>
                  <a:ext cx="355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124080" y="4876920"/>
                  <a:ext cx="355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2363760" y="4875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5000" y="4875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572000" y="4876920"/>
                  <a:ext cx="4111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5256720" y="487584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körül ingadoz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6C77-A334-4A03-8A93-AF8AA09943EB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840" y="5018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ingadoz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91320" y="0"/>
                <a:ext cx="2320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4191120"/>
                <a:ext cx="524664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00120" y="3275640"/>
            <a:ext cx="77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gyesített csoportokon belüli szórásnégyzet (ha konsta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477120" y="1523880"/>
                <a:ext cx="14256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830880" y="190404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a csoport-átlagtól való eltérés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70B15-2853-4DD3-95C7-37FE8CAACAA2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05520" y="1295280"/>
                <a:ext cx="1644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89440" y="273240"/>
            <a:ext cx="885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csoport átlagának varianciája, ha a valóságban nincs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véletlen ingad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3600" y="2362320"/>
                <a:ext cx="289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28840" y="2885040"/>
            <a:ext cx="466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ból becsül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7440" y="16754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81320" y="15998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4572000"/>
                <a:ext cx="39052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5880" y="4648320"/>
                <a:ext cx="255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747680" y="411372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32F5-4969-4CA8-9351-CE38E928D4CB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7920" y="1295280"/>
                <a:ext cx="109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52480" y="4724280"/>
                <a:ext cx="15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52880" y="2286000"/>
                <a:ext cx="26784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228600"/>
                <a:ext cx="2705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978680" y="29707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42160" y="837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tw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95480" y="9907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743200" y="205740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" y="3859920"/>
            <a:ext cx="464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valóságban van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410080" y="3962520"/>
          <a:ext cx="312444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962520"/>
                    <a:ext cx="3124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696D1-D45E-4E13-AAED-FB0F70DB3F6B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592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 tábláz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143000"/>
          <a:ext cx="8610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360" y="5013360"/>
            <a:ext cx="8550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ún. teljes négyzetösszeg. Az A faktor hatása jelentős (elutasítj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880" y="5394240"/>
            <a:ext cx="251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ipotézist),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38480" y="5562720"/>
                <a:ext cx="174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³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837C-20EC-4462-BE68-E0396BFBC679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8:40Z</dcterms:modified>
  <cp:revision>230</cp:revision>
  <dc:subject/>
  <dc:title>Folyamatkepessegi elemzes</dc:title>
</cp:coreProperties>
</file>