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A08C-1E23-4497-A14B-A5842E27902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84F-532F-436A-B1F0-86A725B618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8E3E-E813-4064-BAD9-C6D414C571C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97D6-3ACA-4DE8-9B3B-D22F1CA298EA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D2D-92F1-40EF-BC6E-E6F86643939F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3DD1-A9BE-4EA0-BC01-EE2D359264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9D8CA-49BE-49EF-8A09-7FC5FDDA4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31AB-EF7B-4E7D-A2CD-0452757D95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66BC-182C-4527-B0F9-FAC350729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84E8-C3F8-4722-A595-A8EA026373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1E928-6C0A-48C3-9761-C6D0265E2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7B85-E977-4830-9FA7-9197072178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F870-50AC-4983-94F7-7BC3E1B8C6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99C80-F0D0-43E9-BD5E-D89A41EE9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4C752-9C68-4084-84CB-9B3A0EB0D7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17F3-0295-415B-860D-0C977E7BA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1C81-4CE0-4965-B5AD-60FB8117DE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69A9-4547-4156-9F73-52BE9A19AE0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RIANCIAANALÍZIS (ANOVA) véletlen faktorok eseté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5872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iancia-komponens-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CE31B-45A7-4FC5-BE64-9FB58F08AE64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90720" y="914400"/>
          <a:ext cx="655308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6553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13240" y="27000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eti átlag-terjedelem-kárt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000" y="6019920"/>
            <a:ext cx="52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 va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 a gyártási folyam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D0B52-0AD3-46DC-879E-6123C88E5450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371600"/>
            <a:ext cx="7772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t is akarunk az ellenőrző kártyáv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íteni a véletlen ingadozást a veszélyes hibától. A véletlen ingadozást a szokásos esetben a mintán belüli eltérések mutatj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 mintán belüli ingadozás csak egy része a véletlen ingadozásnak, a hónapok közöttit is figyelembe kell v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DC67-D668-489E-AFDB-A3CC122D6059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206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6760" y="2819520"/>
            <a:ext cx="8134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különbség tehát jelentő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junk becslést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(a hónapok) hatásának varianciájá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4114800"/>
                <a:ext cx="4800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3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9280" y="51055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varianciájának becsl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586728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080" y="152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 (varianciaanalíz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48E9F-FA98-47C8-8695-91F074C4868B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2743200"/>
                <a:ext cx="149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1905120"/>
                <a:ext cx="1981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46280" y="5745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eavatkozási határokat a szokásos esetben az ismétlések ingadozásából számol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0920" y="18288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7432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ingadozás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4038480"/>
                <a:ext cx="1752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V="1">
            <a:off x="762120" y="1828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5760" y="4191120"/>
            <a:ext cx="55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t kell a kártya beavatkozási határaiho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5410080"/>
                <a:ext cx="3860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83808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D6890-E1E5-4EED-BAD2-2A10D39AF4EC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38080" y="1143000"/>
          <a:ext cx="678204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7820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69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rétegű ingadozást (hónap és ismétlés) figyelembe vevő beavatkozási határokkal rajzolt  kár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B2ED0-24E0-46EE-BA58-607FBBB27A4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609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6950160" cy="40420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nemcsak különböző napokon végeztek el, hanem különböző személyek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, hogy a mérést különböző napokon és különböző személyek végzik, okoz-e többlet-ingadozást az egy nap egy személy végezte ismétlések szóródásához kép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CA4CC-17BD-4F43-B57A-CF52713424ED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066680"/>
          <a:ext cx="869148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6914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AF551-48CF-4141-A2DF-68CA1F054E67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914400"/>
                <a:ext cx="369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5800" y="518148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ában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200" y="913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6720" y="434232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(ismét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0680" y="19040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1371600"/>
            <a:ext cx="16765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1371240"/>
            <a:ext cx="761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638680" y="13716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77120" y="144756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0960" y="35042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62120" y="2895480"/>
                <a:ext cx="1736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74840" y="2882880"/>
                <a:ext cx="178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0040" y="280656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25480" y="3581280"/>
                <a:ext cx="1608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36BB9-CA54-43D3-A7D3-BCE6623F19E2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685800"/>
                <a:ext cx="373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72080" y="1828800"/>
                <a:ext cx="1479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72080" y="2666880"/>
                <a:ext cx="1482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70280" y="3505320"/>
                <a:ext cx="1701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9440" y="1827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ullhipotézi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449568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tota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86400" y="54090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elik az ingadozást? Menny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96280" y="684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ap, személy, kölcsönhatás, h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4C82-1A2B-4B70-A2E2-159CA0E47EBB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560" y="533520"/>
            <a:ext cx="268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7688-FA8E-43B8-B86F-FBEC705B2B14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80880"/>
            <a:ext cx="85345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ögzített faktoro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ket a kísérletekhez megválaszthatjuk és beállíthatjuk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különbség a faktor különböző szintjei között, melyik közülük a legjob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fak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t egy elképzelt sokaságból véletlenszerűen választju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aktornak van-e hatása az ingadozásra, több véletlen faktor közül melyik milyen mértékben járul hozzá az ingadozáshoz, a jövőben mekkora ingadozás várhat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83822-8E02-4B6F-B00E-E42D88CF3DB5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7960"/>
          <a:ext cx="91440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0880" y="685800"/>
            <a:ext cx="363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a adataiva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927A0-FB90-4ABE-B0A8-D740816BF0FF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33720"/>
          <a:ext cx="8763120" cy="25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7631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303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Nap, S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969D-99AA-4F31-9B0C-BF53E18C3423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380880"/>
          <a:ext cx="68580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58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048120"/>
          <a:ext cx="845820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84582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8460B-BA91-442D-806C-1810059BBB19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90720" y="3733920"/>
          <a:ext cx="64008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64008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0"/>
          <a:ext cx="9448920" cy="358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448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F8282-47F2-42AD-BB9E-EE4CE32A7B96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495680" cy="31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520" y="3200400"/>
                <a:ext cx="239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8200" y="3862440"/>
                <a:ext cx="5797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7400" y="4929120"/>
                <a:ext cx="6261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4495680" y="457200"/>
          <a:ext cx="46483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57200"/>
                    <a:ext cx="46483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533520" y="3200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038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038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480" y="51051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105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20EFA-9646-4875-87F0-3FF018C775D8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39480"/>
            <a:ext cx="7543800" cy="996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: Gage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R stud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4560" y="4114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tr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114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920" y="28954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1640" y="4114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2590920"/>
                <a:ext cx="368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2133720" y="3047760"/>
            <a:ext cx="152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7760" y="312372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600" y="312408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7960" y="289512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C406-ACBA-4F01-BAB5-E835AC99CF98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792468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709200"/>
            <a:ext cx="7772400" cy="20376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nicillin gyártása, 4 technológiát akarnak összehasonlítani, a kukoricalekvár-adagok különböz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6280" y="59425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920" y="0"/>
            <a:ext cx="238284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blok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700D2-67FB-41F6-8CCD-504B20FFB59D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1066680"/>
                <a:ext cx="367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2971800"/>
                <a:ext cx="27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11480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5410080"/>
                <a:ext cx="17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657600" y="2842200"/>
            <a:ext cx="51814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önbözik az egyes technológiákkal elérhető kitermelé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növeli a kuk. lekvár-adagok közötti különbség a kitermelés ingadozás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 kölcsönhatás közöttü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4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343080"/>
                <a:ext cx="4044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295280" y="19040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k.lek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7400" y="1523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123720" y="15235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A0C9-84BA-4D2C-BFA0-6713F5EAF1C3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990720"/>
          <a:ext cx="9104400" cy="50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04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88320" y="304920"/>
            <a:ext cx="318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81680" y="4952880"/>
                <a:ext cx="1809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28600" y="6107760"/>
            <a:ext cx="166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304920"/>
                <a:ext cx="401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70F7-59E7-456A-B169-6849B766DC18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52280"/>
          <a:ext cx="75438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520" y="2362320"/>
                <a:ext cx="3674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026680" y="23612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 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5562720"/>
                <a:ext cx="2660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103720" y="5637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incs kölcsönh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581280"/>
          <a:ext cx="7543800" cy="20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54380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94720" y="3123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680A-11BE-4569-B5E2-90E62B9F5545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26960"/>
            <a:ext cx="7467840" cy="5191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véletlen faktor szerinti varianciaanalí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1920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három napon kétszer-kétszer végezte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-e ingadozást az, hogy különböző napokon végezték a mérése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733920"/>
          <a:ext cx="647712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6477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2AD8-C317-4988-9576-EC12E08D93CF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9880" y="2209680"/>
          <a:ext cx="480060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8006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350352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80880" y="0"/>
          <a:ext cx="7543800" cy="20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86200" y="4343400"/>
          <a:ext cx="5257800" cy="19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343400"/>
                    <a:ext cx="52578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5A45-39C8-4745-9264-6E40966AA1AE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495680" y="1447920"/>
          <a:ext cx="403884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0388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14800" y="3809880"/>
                <a:ext cx="4305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65320" cy="4876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6629400" y="2438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0" y="2361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29400" y="259092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829B1-AFB0-4DF9-B0FA-75F9B6DC3CE7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559840" y="228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510552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038480" y="2514600"/>
          <a:ext cx="4876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495D-8C38-4217-8410-53815222B9D6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0" y="247320"/>
            <a:ext cx="5908680" cy="5698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erarchikus osztály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143000"/>
            <a:ext cx="687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x, Hunter és Hunter (197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tékgyári nedvesség-tartalom-meghatározás: 15 gyártott adagból két-két mintát vesznek, mindkettőnek a víztartalmát kétszer-kétszer megmér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2760" y="3225960"/>
            <a:ext cx="8026200" cy="2844720"/>
            <a:chOff x="482760" y="3225960"/>
            <a:chExt cx="8026200" cy="2844720"/>
          </a:xfrm>
        </p:grpSpPr>
        <p:sp>
          <p:nvSpPr>
            <p:cNvPr id="253" name=""/>
            <p:cNvSpPr/>
            <p:nvPr/>
          </p:nvSpPr>
          <p:spPr>
            <a:xfrm>
              <a:off x="666720" y="3260880"/>
              <a:ext cx="681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gyártott adagok         1                   2           …        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440" y="3794040"/>
              <a:ext cx="735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ták                  1        2          3       4      …       29 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60" y="4861080"/>
              <a:ext cx="779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lemzés             1   2    3   4      5   6   7   8   …   57  58   59 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4880" y="516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360" y="4251240"/>
              <a:ext cx="743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    (2)        (1)    (2)     …      (1)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680" y="5470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5318280"/>
              <a:ext cx="774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(2) (1) (2)  (1) (2) (1) (2) …  (1)  (2) (1)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89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220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41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752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66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70824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989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22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2732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03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24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84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50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68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38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56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720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760" y="3225960"/>
              <a:ext cx="80262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E8E7-DBCE-4D71-9E76-23AA94C1C338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1447920"/>
          <a:ext cx="784872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7848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46280" y="822240"/>
            <a:ext cx="740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táblázatának egy rész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2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D82A-6D22-48AB-912A-53B56E4E9775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5560" y="53352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19520" y="533520"/>
                <a:ext cx="3190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132640" y="175140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alí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66880" y="914400"/>
            <a:ext cx="13716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106632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15000" y="10663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297180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08360" y="2959200"/>
                <a:ext cx="17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08560" y="2882880"/>
                <a:ext cx="197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50120" y="3808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4C7C8-E115-4368-81B6-75D4D1F080AF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295280"/>
          <a:ext cx="9144000" cy="33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440" y="457200"/>
            <a:ext cx="276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880" y="4800600"/>
                <a:ext cx="148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895480" y="4800600"/>
                <a:ext cx="1078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5562720"/>
                <a:ext cx="148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5562720"/>
                <a:ext cx="1189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Sup>
                      <m:e/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9920" y="44197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9920" y="53341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V="1">
            <a:off x="6019920" y="46479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648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5486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9CD1-6B38-435C-8802-81F463EA69BB}" type="slidenum">
              <a:t>36</a:t>
            </a:fld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457200" y="990720"/>
          <a:ext cx="84582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62120" y="3581280"/>
          <a:ext cx="47242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47242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15A54-31F2-4F9A-8C5C-8970C4830D96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172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rögzített és két véletlen faktor: latin négy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1368000"/>
            <a:ext cx="8153640" cy="2105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gy benzin-adalékot hasonlítanak össze szennyezés-kibocsátás szempontjából. Gondolni kell az autók és vezetők esetleges különbözőségére is (blokk-faktor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480" y="594252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: 1,…,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ó: I,…,I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lék: 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C82D-008E-40FC-BD27-8291F2ACCBAC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19320" y="914400"/>
                <a:ext cx="3327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592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0600" y="8370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14400" y="2590920"/>
                <a:ext cx="673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11280" y="19040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modell ilyen lenn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441600" y="304920"/>
                <a:ext cx="5100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482520" y="1904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ísérl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F3C82-8F35-45B5-9648-2B8A2169D239}" type="slidenum">
              <a:t>39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440" y="762120"/>
            <a:ext cx="4261320" cy="477720"/>
            <a:chOff x="685440" y="762120"/>
            <a:chExt cx="4261320" cy="4777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971800" y="762120"/>
                  <a:ext cx="1974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685440" y="762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A model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1416240"/>
            <a:ext cx="6019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nap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4120" y="2894400"/>
            <a:ext cx="6014160" cy="459720"/>
            <a:chOff x="834120" y="2894400"/>
            <a:chExt cx="6014160" cy="459720"/>
          </a:xfrm>
        </p:grpSpPr>
        <p:sp>
          <p:nvSpPr>
            <p:cNvPr id="59" name=""/>
            <p:cNvSpPr/>
            <p:nvPr/>
          </p:nvSpPr>
          <p:spPr>
            <a:xfrm>
              <a:off x="834120" y="28944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ögzített faktorná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876480" y="2895480"/>
                  <a:ext cx="2971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910800" y="39614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letlen faktor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48006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62720" y="4724280"/>
                <a:ext cx="160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162920" y="5410080"/>
                <a:ext cx="1450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5410080"/>
                <a:ext cx="144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553080" y="533412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96252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E223C-6F9D-4BE3-956A-3BD1327A4A7C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685800" y="4343400"/>
          <a:ext cx="60958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958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62120" y="1143000"/>
          <a:ext cx="45720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572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95080" y="15084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Industrial Statistics &amp; Six Sigma&gt;Experimental Desig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Latin squa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93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factors: Driver,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D933-1627-4917-A36B-9AE75CE38035}" type="slidenum">
              <a:t>40</a:t>
            </a:fld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685800" y="2895480"/>
          <a:ext cx="70866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086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57800" y="23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2120" y="228600"/>
          <a:ext cx="480060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4800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076080" y="50184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gzített faktorok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gyanaz az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D0A19-8286-49E9-982C-9FFE0C8A1905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914400"/>
          <a:ext cx="9144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8280" y="22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4724280"/>
                <a:ext cx="19908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05520" y="5334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2920" y="5105520"/>
                <a:ext cx="1014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60199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951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47E75-852C-4C4E-B1C1-2E2C1EE98DA3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 táblázat egy véletlen fakto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1911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fogadjuk a nullhipotéz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29400" y="4191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1680" y="5029200"/>
                <a:ext cx="1014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533520" y="1371600"/>
          <a:ext cx="754380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5438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ACBCB-5668-4B45-B190-568A3533A19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00" y="152280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hipotézist elutasítjuk, becsülnünk kell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varianci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2286000"/>
            <a:ext cx="2065320" cy="939960"/>
            <a:chOff x="990720" y="2286000"/>
            <a:chExt cx="2065320" cy="93996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990720" y="2743200"/>
                  <a:ext cx="20653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σ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 flipV="1">
              <a:off x="9907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2666520"/>
            <a:ext cx="1120680" cy="560880"/>
            <a:chOff x="5029200" y="2666520"/>
            <a:chExt cx="1120680" cy="56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05520" y="2743200"/>
                  <a:ext cx="1044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 flipV="1">
              <a:off x="5029200" y="266652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266688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962520"/>
            <a:ext cx="1719000" cy="961920"/>
            <a:chOff x="762120" y="3962520"/>
            <a:chExt cx="1719000" cy="9619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2120" y="4038480"/>
                  <a:ext cx="1719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 flipV="1">
              <a:off x="7621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457200"/>
                <a:ext cx="222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457200"/>
                <a:ext cx="137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685800" y="1523880"/>
            <a:ext cx="6754680" cy="482760"/>
            <a:chOff x="685800" y="1523880"/>
            <a:chExt cx="6754680" cy="48276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85800" y="1523880"/>
                  <a:ext cx="14461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010280" y="152388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4267080" y="3962520"/>
          <a:ext cx="42674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42674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6EA6-1472-4B99-80BC-421AD29AEDFD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315200" cy="3896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ző kártya többrétegű ingadozá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ógyszergyári ellenőrző laboratóriumban az eljárás stabilitását (időbeli állandóságát) úgy ellenőrzik, hogy egy ismert összetételű minta (ún. ellenőrző minta) hatóanyag-tartalmát havonta mérik, alkalmanként 3 ismétlé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001E2-6030-4F87-8F9D-BFF8FE1AD5E8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16292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D762C-66D3-4210-B232-157BEDD275F4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40:21Z</dcterms:modified>
  <cp:revision>228</cp:revision>
  <dc:subject/>
  <dc:title>Folyamatkepessegi elemzes</dc:title>
</cp:coreProperties>
</file>