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FAFCC-7C08-45EF-916F-0A5610970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28354-7387-4DE6-A838-F1B98461E0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079C8-F67E-4D45-99F4-421D2B5E51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8304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0412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160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8304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0412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9EE20-DC3C-4E1C-A4F1-7B936938D9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2DF8E-69AB-43DA-B299-967E0E4045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E614B-0B8E-4811-A0B0-22833D677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0E55A-71D8-45DD-BA26-55CE80BB5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6EE48-0321-4C2E-9F40-E01D9F5DE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0" y="151920"/>
            <a:ext cx="590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DA613-E63B-4CD5-A93B-750729E3E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02C54-640D-4F0B-A131-DA25B6634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2FA31-A72E-4149-B7CB-CC6889D4D8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88E08-4A98-4357-97EE-180924D09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3240" y="6400800"/>
            <a:ext cx="267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30960" y="640080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01F4-A538-4CE0-9A02-83A151A6B0E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9BF59CF-3122-4E9B-9B94-3E63914A9462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4724280" cy="9144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t faktor szerint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OV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62120" y="1964880"/>
            <a:ext cx="716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aktor minden szintjét kombináljuk a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aktor minden szintjével, minden "cellában azonos számú ismétlés (kiegyensúlyozott terv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erv szerkezete miatt a faktorok hatását egymásétól függetlenül vizsgálhatj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2875-5702-4D73-A2B3-08A43922292D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33520" y="2286000"/>
          <a:ext cx="533376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533376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06800" y="253080"/>
            <a:ext cx="3705480" cy="5205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x-Cox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ranszformá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029200" y="228600"/>
                <a:ext cx="1039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λ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276480" y="959040"/>
            <a:ext cx="87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Ope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(Program Fi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StatSoft&gt;Statistica7&gt;Examples&gt;Macro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Analysis Examples&gt;BoxCo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238880" y="4572000"/>
                <a:ext cx="8953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F8ECA-A6BD-47FF-92CB-B83B20EAF1A0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62120" y="1219320"/>
          <a:ext cx="594360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59436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DFC4-2BB9-468C-BE29-293A9967EFCF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66680" y="152388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09480" y="533520"/>
                <a:ext cx="1062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86000" y="533520"/>
                <a:ext cx="21495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ln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5252400" y="53352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enest kell illeszt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467480" y="2133720"/>
                <a:ext cx="7635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391520" y="3200400"/>
                <a:ext cx="101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8FC27-9A33-461D-B1E0-F32135D0EFA3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685800"/>
                <a:ext cx="1062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87560" y="4572000"/>
                <a:ext cx="3905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083120" y="3406680"/>
                <a:ext cx="1682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19520" y="533520"/>
                <a:ext cx="41148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26920" y="2057400"/>
                <a:ext cx="2030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074760" y="2056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103640" y="1828800"/>
                <a:ext cx="199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74349-B21A-4981-B8F7-02E14A526A46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85800" y="2448000"/>
          <a:ext cx="605160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48000"/>
                    <a:ext cx="6051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19320" y="609480"/>
                <a:ext cx="3905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 flipH="1">
            <a:off x="6705720" y="3429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5DFD-4202-4DF8-9CBF-21689A1BC5A3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228600"/>
          <a:ext cx="435456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435456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495680" y="2666880"/>
          <a:ext cx="4648320" cy="347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666880"/>
                    <a:ext cx="46483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017760" y="53352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lyett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20796-D085-4CCC-AD75-D70DA5EC5659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219320" y="838080"/>
          <a:ext cx="6553080" cy="490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530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5B62-5897-4146-8D48-93E473911D1B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90720" y="1143000"/>
          <a:ext cx="6019560" cy="23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601956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93640" y="4861080"/>
            <a:ext cx="80168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atások még kifejezettebbek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értékei nagyobbak), a kölcsönhatáshoz tartozó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0.112 helyett 0.387 les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12414-D228-4B48-A501-81A8EBEAA3C3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04920" y="1143000"/>
          <a:ext cx="434340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434340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800600" y="3048120"/>
          <a:ext cx="4343400" cy="32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048120"/>
                    <a:ext cx="4343400" cy="32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09840" y="30492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eziduumok vizsgá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6D5C3-A275-4D9A-9B37-1EF4C34EE8A3}" type="slidenum">
              <a:t>18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362320" y="1295280"/>
          <a:ext cx="5956200" cy="514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295280"/>
                    <a:ext cx="595620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609480" y="110880"/>
            <a:ext cx="8229600" cy="13003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Box-Hunter-Hunter: Statistics for Experimenters, J. Wiley, 1978, p. 165)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oison.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07B0C-780D-474E-8513-1C0073EFBE44}" type="slidenum">
              <a:t>2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85800"/>
          <a:ext cx="723888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23888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2CBE6-7864-4CD4-B3D0-1BF22487F261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133720" y="1219320"/>
                <a:ext cx="1773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0720" y="4419720"/>
                <a:ext cx="3537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446480" y="266580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ére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ezelé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438280" y="1752120"/>
            <a:ext cx="7621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428640" y="1752120"/>
            <a:ext cx="60948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9600" y="1904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343040" y="1676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4760" y="4561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1920" y="5378760"/>
            <a:ext cx="81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dik mére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dik kezelé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lcsönh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286000" y="495288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428640" y="495288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343400" y="4952880"/>
            <a:ext cx="23623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32280" y="30384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867280" y="1143000"/>
                <a:ext cx="275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qp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EB93-CBCF-427B-9BF9-FA218958AA42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514600" y="1446840"/>
            <a:ext cx="5517360" cy="459720"/>
            <a:chOff x="2514600" y="1446840"/>
            <a:chExt cx="5517360" cy="45972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2514600" y="1447920"/>
                  <a:ext cx="287028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: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⋅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6095160" y="1446840"/>
              <a:ext cx="193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ind azono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295280" y="609480"/>
            <a:ext cx="5152680" cy="534960"/>
            <a:chOff x="1295280" y="609480"/>
            <a:chExt cx="5152680" cy="53496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1295280" y="609480"/>
                  <a:ext cx="17733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>
              <a:off x="4721760" y="68472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átlag-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95280" y="2437200"/>
            <a:ext cx="6634800" cy="483840"/>
            <a:chOff x="1295280" y="2437200"/>
            <a:chExt cx="6634800" cy="48384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295280" y="2438280"/>
                  <a:ext cx="353700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α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>
              <a:off x="6170400" y="243720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hatás-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819520" y="3352680"/>
                <a:ext cx="2639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43200" y="4267080"/>
                <a:ext cx="2995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743200" y="5105520"/>
                <a:ext cx="44877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;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30B8F-299E-4A1A-AC9D-0CFAE5F5F830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9960" y="27396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OV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tábláz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715000" y="457164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42360" y="5256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4-1)=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880" y="838080"/>
          <a:ext cx="85345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534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097F-1228-490B-9AE1-D9ED253E1A0F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57200" y="3962520"/>
          <a:ext cx="7086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7086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0" y="0"/>
          <a:ext cx="5334120" cy="352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533412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334120" y="-3240"/>
            <a:ext cx="380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vanced Linear/Nonlinear Model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General Linear Models&gt;Factorial ANO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ans fülön: Observed, unweighted,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0640" y="342792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fülön: Al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50D7-EECB-4B8D-935A-AB56D009DA56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85800" y="2514600"/>
          <a:ext cx="533412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533412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85800" y="4267080"/>
          <a:ext cx="5867280" cy="15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586728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83280" y="38088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moszkedasztici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319720" y="533520"/>
                <a:ext cx="14176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7086600" y="53244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440" y="133668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re resul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gt;Assumptions 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l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Homogeneity of var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2B020-0A16-4409-B9DA-2CB93A44D27F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5800" y="182880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90760" y="37980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reziduumok vizsgá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0760" y="9558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siduals1 fülön: Pred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 res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2EA7-7E7C-48B0-90B8-56831ED7AACA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7:27:07Z</dcterms:created>
  <dc:creator>Kemeny S.</dc:creator>
  <dc:description/>
  <dc:language>en-US</dc:language>
  <cp:lastModifiedBy>Sandor Kemeny</cp:lastModifiedBy>
  <cp:lastPrinted>2004-03-28T17:40:53Z</cp:lastPrinted>
  <dcterms:modified xsi:type="dcterms:W3CDTF">2008-04-14T15:39:22Z</dcterms:modified>
  <cp:revision>227</cp:revision>
  <dc:subject/>
  <dc:title>Folyamatkepessegi elemzes</dc:title>
</cp:coreProperties>
</file>